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ED93-A4C9-478D-9B20-2A944EE2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15F-CA64-4DC1-9C09-145129EA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CFB-E27A-41E4-912F-64C71B55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D56F-C729-4CCA-947F-03A76D83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0B8-E7AF-467F-8C9F-91FDF9BC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F36-9260-4D9C-91A0-C929BB3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C378-0B36-481C-8AA6-ACA154EA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1B7-5203-452E-A8F2-DB60A63F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05C-1640-4844-B59F-CB528D2A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5DA-9960-4F9E-9E80-BD74D460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39F-7559-482D-A784-B359AC9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AB9-4AA9-4587-8D99-E3E38F3C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E83E-F1D4-4E59-A016-E198B82AA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naiss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European world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alue of economic and political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value of economic and political g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 and Power are worth warring ov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workers and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busines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it workers and consu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o increase pro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35680" y="813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wareness of other fai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wareness of other fai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wealth to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contact with the 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wareness of other fai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 wealth to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t wealth should bring access to foreign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trade with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ed trade with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ation that trade would bring wealth to Italian city-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 betwe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ty-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d value of human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5:05:04Z</dcterms:created>
  <dc:creator>fmcsd</dc:creator>
  <dc:description/>
  <dc:language>en-US</dc:language>
  <cp:lastModifiedBy>fmcsd</cp:lastModifiedBy>
  <dcterms:modified xsi:type="dcterms:W3CDTF">2007-10-24T15:14:46Z</dcterms:modified>
  <cp:revision>2</cp:revision>
  <dc:subject/>
  <dc:title>Renaissance</dc:title>
</cp:coreProperties>
</file>